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9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4.wmf" ContentType="image/x-wmf"/>
  <Override PartName="/ppt/media/image7.jpeg" ContentType="image/jpeg"/>
  <Override PartName="/ppt/media/image11.png" ContentType="image/png"/>
  <Override PartName="/ppt/media/image3.gif" ContentType="image/gif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277-E9EC-4DB5-8D21-2B63B4A03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CA8F-3475-423D-BCB4-596008F13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8106-B908-4C59-9ED7-C3D58A238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341-B0C8-4BD5-89F6-3C059897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23D-EC64-4A7A-9AD1-308CD5BE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70E-BA39-4D45-B5D2-CD7DFB87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126-CB99-4481-8BD1-1D80A340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7E7-73D0-4DEA-9640-4D4FFBCA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9DB-3416-4C18-A94B-5837CFAD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DED-EB07-4369-BBCB-0D771C63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E0A-5D24-4C0E-874E-F07A836F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49B-8256-4BFA-9C4D-9A6C8FA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F2F-DCB3-4618-88D0-19C45DC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C6A-6F99-4297-B8F1-9DB106D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9BA-2853-40CF-B2C2-E16D047E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5542-5C7F-4860-9213-82E2CF3607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’s in this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WHI.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The student will demonstrate knowledge of early development of humankind from the Paleolithic Era to the agricultural revolution b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ing the impact of geographic environment on hunter-gatherer societ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ing characteristics of hunter-gatherer societies including their use of tools and fir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ing technological and social advancements that gave rise to stable communit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ing how archaeological discoveries are changing present-day knowledge of early peop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cated in river valleys and areas where game is avail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e Fertile Crescen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are the river boundaries of the Fertile Cresc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uphrates,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g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sopota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so means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e Fertile Crescen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gion by the Persian Gu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lt made it fert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t canals and dams to control flo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ing technology to control ge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d to the creation of city-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y influences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ty of 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The Fertile Cresc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iests as lea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rship force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ythe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orship of many g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y to appease the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ology influences 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one group is subject to an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do we find out all of this stuf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have our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Chris Williams\AppData\Local\Microsoft\Windows\Temporary Internet Files\Content.IE5\6CC0NIFD\MCNA00178_0000[1].wmf"/>
          <p:cNvPicPr/>
          <p:nvPr/>
        </p:nvPicPr>
        <p:blipFill>
          <a:blip r:embed="rId2"/>
          <a:stretch/>
        </p:blipFill>
        <p:spPr>
          <a:xfrm>
            <a:off x="3200400" y="3124080"/>
            <a:ext cx="23335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rchaeology – Study of old th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e find arti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rtifacts are items from an older civ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clude tools, pottery, bones, cloth, and foss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ut how do we know how old it i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e use radio-carbon dating, the fossil record, and geological colum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100_200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838080" y="350028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olithic artifact  that used stones for some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one knows for sure what it was used for or who buil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49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5032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The Leake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rchaeologists and anthropologists in Afr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Discovered many skeletons near Olduvai Gorg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74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Calibri"/>
              </a:rPr>
              <a:t>Lucy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95440" y="3657600"/>
            <a:ext cx="494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hannsen discovered the skeleton “Lucy” who is supposedly about 3.2 million years old and the earliest known proto-hu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Lucy Mini-Lecture.wmv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4978440" cy="28000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3" descr="104_0613.JPG"/>
          <p:cNvPicPr/>
          <p:nvPr/>
        </p:nvPicPr>
        <p:blipFill>
          <a:blip r:embed="rId2"/>
          <a:stretch/>
        </p:blipFill>
        <p:spPr>
          <a:xfrm>
            <a:off x="0" y="1471680"/>
            <a:ext cx="40384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7952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35">
                                  <p:stCondLst>
                                    <p:cond delay="20000"/>
                                  </p:stCondLst>
                                  <p:childTnLst>
                                    <p:animMotion origin="layout" path="M -0.10833 3.7037E-007 L -0.35833 3.7037E-007 E">
                                      <p:cBhvr>
                                        <p:cTn id="55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56">
                                  <p:stCondLst>
                                    <p:cond delay="20000"/>
                                  </p:stCondLst>
                                  <p:childTnLst>
                                    <p:animMotion origin="layout" path="M -0.14167 0.03333 L 0.30833 -0.46528 E">
                                      <p:cBhvr>
                                        <p:cTn id="55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tent Placeholder 2"/>
          <p:cNvSpPr/>
          <p:nvPr/>
        </p:nvSpPr>
        <p:spPr>
          <a:xfrm>
            <a:off x="457200" y="12952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th a partner, ask and answer the following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y are we concerned with our origi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at makes a civilization a civil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ere would be a good place to live if you were going to start a new civil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at supplies do you think you’d need to start a new civil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Inters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Quad Arrow 4"/>
          <p:cNvSpPr/>
          <p:nvPr/>
        </p:nvSpPr>
        <p:spPr>
          <a:xfrm>
            <a:off x="7162920" y="0"/>
            <a:ext cx="1981080" cy="1447920"/>
          </a:xfrm>
          <a:custGeom>
            <a:avLst/>
            <a:gdLst/>
            <a:ahLst/>
            <a:rect l="l" t="t" r="r" b="b"/>
            <a:pathLst>
              <a:path w="1981200" h="1447800">
                <a:moveTo>
                  <a:pt x="0" y="723900"/>
                </a:moveTo>
                <a:lnTo>
                  <a:pt x="325755" y="547066"/>
                </a:lnTo>
                <a:lnTo>
                  <a:pt x="325755" y="676847"/>
                </a:lnTo>
                <a:lnTo>
                  <a:pt x="943547" y="676847"/>
                </a:lnTo>
                <a:lnTo>
                  <a:pt x="943547" y="325755"/>
                </a:lnTo>
                <a:lnTo>
                  <a:pt x="813766" y="325755"/>
                </a:lnTo>
                <a:lnTo>
                  <a:pt x="990600" y="0"/>
                </a:lnTo>
                <a:lnTo>
                  <a:pt x="1167434" y="325755"/>
                </a:lnTo>
                <a:lnTo>
                  <a:pt x="1037654" y="325755"/>
                </a:lnTo>
                <a:lnTo>
                  <a:pt x="1037654" y="676847"/>
                </a:lnTo>
                <a:lnTo>
                  <a:pt x="1655445" y="676847"/>
                </a:lnTo>
                <a:lnTo>
                  <a:pt x="1655445" y="547066"/>
                </a:lnTo>
                <a:lnTo>
                  <a:pt x="1981200" y="723900"/>
                </a:lnTo>
                <a:lnTo>
                  <a:pt x="1655445" y="900734"/>
                </a:lnTo>
                <a:lnTo>
                  <a:pt x="1655445" y="770954"/>
                </a:lnTo>
                <a:lnTo>
                  <a:pt x="1037654" y="770954"/>
                </a:lnTo>
                <a:lnTo>
                  <a:pt x="1037654" y="1122045"/>
                </a:lnTo>
                <a:lnTo>
                  <a:pt x="1167434" y="1122045"/>
                </a:lnTo>
                <a:lnTo>
                  <a:pt x="990600" y="1447800"/>
                </a:lnTo>
                <a:lnTo>
                  <a:pt x="813766" y="1122045"/>
                </a:lnTo>
                <a:lnTo>
                  <a:pt x="943547" y="1122045"/>
                </a:lnTo>
                <a:lnTo>
                  <a:pt x="943547" y="770954"/>
                </a:lnTo>
                <a:lnTo>
                  <a:pt x="325755" y="770954"/>
                </a:lnTo>
                <a:lnTo>
                  <a:pt x="325755" y="900734"/>
                </a:lnTo>
                <a:lnTo>
                  <a:pt x="0" y="7239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Quad Arrow 7"/>
          <p:cNvSpPr/>
          <p:nvPr/>
        </p:nvSpPr>
        <p:spPr>
          <a:xfrm>
            <a:off x="0" y="0"/>
            <a:ext cx="1981080" cy="1371600"/>
          </a:xfrm>
          <a:custGeom>
            <a:avLst/>
            <a:gdLst/>
            <a:ahLst/>
            <a:rect l="l" t="t" r="r" b="b"/>
            <a:pathLst>
              <a:path w="1981200" h="1371600">
                <a:moveTo>
                  <a:pt x="0" y="685800"/>
                </a:moveTo>
                <a:lnTo>
                  <a:pt x="308610" y="518273"/>
                </a:lnTo>
                <a:lnTo>
                  <a:pt x="308610" y="641223"/>
                </a:lnTo>
                <a:lnTo>
                  <a:pt x="946023" y="641223"/>
                </a:lnTo>
                <a:lnTo>
                  <a:pt x="946023" y="308610"/>
                </a:lnTo>
                <a:lnTo>
                  <a:pt x="823073" y="308610"/>
                </a:lnTo>
                <a:lnTo>
                  <a:pt x="990600" y="0"/>
                </a:lnTo>
                <a:lnTo>
                  <a:pt x="1158127" y="308610"/>
                </a:lnTo>
                <a:lnTo>
                  <a:pt x="1035177" y="308610"/>
                </a:lnTo>
                <a:lnTo>
                  <a:pt x="1035177" y="641223"/>
                </a:lnTo>
                <a:lnTo>
                  <a:pt x="1672590" y="641223"/>
                </a:lnTo>
                <a:lnTo>
                  <a:pt x="1672590" y="518273"/>
                </a:lnTo>
                <a:lnTo>
                  <a:pt x="1981200" y="685800"/>
                </a:lnTo>
                <a:lnTo>
                  <a:pt x="1672590" y="853327"/>
                </a:lnTo>
                <a:lnTo>
                  <a:pt x="1672590" y="730377"/>
                </a:lnTo>
                <a:lnTo>
                  <a:pt x="1035177" y="730377"/>
                </a:lnTo>
                <a:lnTo>
                  <a:pt x="1035177" y="1062990"/>
                </a:lnTo>
                <a:lnTo>
                  <a:pt x="1158127" y="1062990"/>
                </a:lnTo>
                <a:lnTo>
                  <a:pt x="990600" y="1371600"/>
                </a:lnTo>
                <a:lnTo>
                  <a:pt x="823073" y="1062990"/>
                </a:lnTo>
                <a:lnTo>
                  <a:pt x="946023" y="1062990"/>
                </a:lnTo>
                <a:lnTo>
                  <a:pt x="946023" y="730377"/>
                </a:lnTo>
                <a:lnTo>
                  <a:pt x="308610" y="730377"/>
                </a:lnTo>
                <a:lnTo>
                  <a:pt x="308610" y="853327"/>
                </a:lnTo>
                <a:lnTo>
                  <a:pt x="0" y="685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240" y="12189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thing in red (STOP and pay close attention) is critical information and should be copied exact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thing written in yellow (slow down and pay attention) is useful information. You should write it in your notes like a text mess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thing in green (go on to the next point) you do not have to wr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 time you see a video with no text it is your responsibility to write notes for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32791902"/>
          <p:cNvPicPr/>
          <p:nvPr/>
        </p:nvPicPr>
        <p:blipFill>
          <a:blip r:embed="rId1"/>
          <a:stretch/>
        </p:blipFill>
        <p:spPr>
          <a:xfrm>
            <a:off x="6891480" y="0"/>
            <a:ext cx="5000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32791902"/>
          <p:cNvPicPr/>
          <p:nvPr/>
        </p:nvPicPr>
        <p:blipFill>
          <a:blip r:embed="rId2"/>
          <a:stretch/>
        </p:blipFill>
        <p:spPr>
          <a:xfrm>
            <a:off x="1752480" y="0"/>
            <a:ext cx="50004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ncient Tex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r. Willia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 mean they had cell phones back in the 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.  Texts refer to wri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 what were some of the writings that they h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he Epic of Gilgame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9907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ory about death, friendship, the meaning of life, and the way the gods treated hum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lgamesh’s friend 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lgamesh goes to the underworld to rescue h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discovers that since everyone dies, life is meaning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gods are cruel since they punish m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Gilgamesh Mini-Lecture.wmv" descr=""/>
          <p:cNvPicPr/>
          <p:nvPr/>
        </p:nvPicPr>
        <p:blipFill>
          <a:blip r:embed="rId1"/>
          <a:stretch/>
        </p:blipFill>
        <p:spPr>
          <a:xfrm>
            <a:off x="4343400" y="1973160"/>
            <a:ext cx="48006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5" dur="8736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2" presetSubtype="2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2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2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alibri"/>
              </a:rPr>
              <a:t>Ancient Text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ing was done originally in picto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eroglyphs were difficult to produce and very time consuming to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farm4.static.flickr.com/3251/3141498584_85ea316248_o.jpg"/>
          <p:cNvPicPr/>
          <p:nvPr/>
        </p:nvPicPr>
        <p:blipFill>
          <a:blip r:embed="rId1"/>
          <a:stretch/>
        </p:blipFill>
        <p:spPr>
          <a:xfrm>
            <a:off x="1752480" y="3105000"/>
            <a:ext cx="5753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alibri"/>
              </a:rPr>
              <a:t>Ancient Text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960" y="11426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neiform evolved from hieroglyphs and were based on sounds called phon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ing created the need for professional scribes or wri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http://static.flickr.com/3388/3248294609_a6e3f14fc5.jpg"/>
          <p:cNvPicPr/>
          <p:nvPr/>
        </p:nvPicPr>
        <p:blipFill>
          <a:blip r:embed="rId1"/>
          <a:stretch/>
        </p:blipFill>
        <p:spPr>
          <a:xfrm>
            <a:off x="4267080" y="228600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alibri"/>
              </a:rPr>
              <a:t>Ancient Text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5486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eroglyphs were not able to be translated until the Rosetta Stone was discov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London Trip pix\100_2114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55840" cy="4341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04920" y="2590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ogly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6294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335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rot="359400">
            <a:off x="2362320" y="2895480"/>
            <a:ext cx="2057400" cy="152640"/>
          </a:xfrm>
          <a:prstGeom prst="rightArrow">
            <a:avLst>
              <a:gd name="adj1" fmla="val 50000"/>
              <a:gd name="adj2" fmla="val 3369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2590920" y="44197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5181480" y="3657600"/>
            <a:ext cx="1371600" cy="152280"/>
          </a:xfrm>
          <a:prstGeom prst="leftArrow">
            <a:avLst>
              <a:gd name="adj1" fmla="val 50000"/>
              <a:gd name="adj2" fmla="val 225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us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cated in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major cities of the Indus River Civilization were Harappa in the north and Mohenjo-Daro in the s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ities were prone to flooding since they were built along the Indus 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nges River Civ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so is subject to flo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nows in the Himalayas would melt and cause major flooding in the spring while the monsoons (seasonal, rain-bearing winds) would cause floods in the summer and 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le these floods left silt, they also destroyed cr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6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ships were the 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bles were also present.  These men were most likely wealthy and advised the king on wars and conquest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ia had planned cities built with baked bricks and protective wa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also had citadels which are fortresses to protect city dwel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ology and geography merge as they also used natural barriers such as deserts, mountains, and rivers as lines of def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4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4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ia had a stratified society (hierarchy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s, nobles, &amp; peas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were no known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ocieties were polythei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ivilizations fell, but we don’t know when, how, or w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4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can we learn from Og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69600"/>
            <a:ext cx="83059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leolithic 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leo=“ol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thic=“ston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 Stone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stone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xes, knives, cl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ter/gather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ma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veman_jumping_hg_clr"/>
          <p:cNvPicPr/>
          <p:nvPr/>
        </p:nvPicPr>
        <p:blipFill>
          <a:blip r:embed="rId1"/>
          <a:stretch/>
        </p:blipFill>
        <p:spPr>
          <a:xfrm flipH="1">
            <a:off x="5714640" y="12193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ampfire animated gif"/>
          <p:cNvPicPr/>
          <p:nvPr/>
        </p:nvPicPr>
        <p:blipFill>
          <a:blip r:embed="rId2"/>
          <a:stretch/>
        </p:blipFill>
        <p:spPr>
          <a:xfrm>
            <a:off x="472428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arly China’s Civiliz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ng Dynas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ttlements were along the Huang He (Yellow)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oods and deposited a very rich, yellow silt called lo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d very fertile farmland for the developing civi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cause the floods were so destructive and violent, cities tended to be fairly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arly China’s Civiliz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hang built dams to help control the fl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was some early writing, but not many people could read or wr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arly China’s Civiliz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eople of the Shang lived in small, close housing.  They lived in a communal (sharing), clannish (family-based)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giously, they were polytheistic and naturalistic (worship nature).  They also created icons (religious objects) of pottery for wor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Early South Americ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ver civ’s devel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 much violent flo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opical areas provided for better grow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cities along 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far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would that do to populations in these civiliz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alibri"/>
              </a:rPr>
              <a:t>Think about it!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are the main differences between India and Chi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ographic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ic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ologic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e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conomic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ain ideas to 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mads wandered and lived in the Paleo- and Mesolithic Er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gricultural Revolution occurred with the Neolithic 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st civilizations settled near sources of fresh water (rivers, lakes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learn about these times from artifacts left behind by early peo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ain ideas to 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figure out how old items are by radio-carbon d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eties overcame limits of environment by domesticating animals and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chaeologists help us understand early peo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working became more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Lessons from Og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solithic 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so = “midd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ddle Stone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rly metal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ting tools (spears, bow/ar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er-f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mi-nomad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mall-scale far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Chris Williams\AppData\Local\Microsoft\Windows\Temporary Internet Files\Content.IE5\ZMFBUHWP\MCj04175220000[1].wmf"/>
          <p:cNvPicPr/>
          <p:nvPr/>
        </p:nvPicPr>
        <p:blipFill>
          <a:blip r:embed="rId1"/>
          <a:stretch/>
        </p:blipFill>
        <p:spPr>
          <a:xfrm rot="12982800">
            <a:off x="6672240" y="4390200"/>
            <a:ext cx="1766880" cy="175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Chris Williams\AppData\Local\Microsoft\Windows\Temporary Internet Files\Content.IE5\6CC0NIFD\MCj04366760000[1].wmf"/>
          <p:cNvPicPr/>
          <p:nvPr/>
        </p:nvPicPr>
        <p:blipFill>
          <a:blip r:embed="rId2"/>
          <a:stretch/>
        </p:blipFill>
        <p:spPr>
          <a:xfrm>
            <a:off x="6324480" y="1387440"/>
            <a:ext cx="27432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Lessons from Og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olithic 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o = “Ne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Stone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e metal tools, advanced stone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 sett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estication of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-scale agriculture and storage of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tery and wea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Lessons from Og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onze 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pper and Bronze 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rming tools, metal weap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-scal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 of la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Quiz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Paleolithic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nom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which era did small scale farming be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id man start domesticating anim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wo metals make bron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mple barter in all of the 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rter =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rade a chicken for some g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ed to the use of pack animals and the cara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Econom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andshake"/>
          <p:cNvPicPr/>
          <p:nvPr/>
        </p:nvPicPr>
        <p:blipFill>
          <a:blip r:embed="rId1"/>
          <a:stretch/>
        </p:blipFill>
        <p:spPr>
          <a:xfrm>
            <a:off x="457200" y="4494240"/>
            <a:ext cx="3581280" cy="2363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www.gunterzeug.de/slides/suq.jpg"/>
          <p:cNvPicPr/>
          <p:nvPr/>
        </p:nvPicPr>
        <p:blipFill>
          <a:blip r:embed="rId2"/>
          <a:stretch/>
        </p:blipFill>
        <p:spPr>
          <a:xfrm>
            <a:off x="4267080" y="352440"/>
            <a:ext cx="48769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ntent Placeholder 2"/>
          <p:cNvSpPr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ans and vill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ule by the best hunters and figh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1:34:09Z</dcterms:created>
  <dc:creator>Chris Williams</dc:creator>
  <dc:description/>
  <dc:language>en-US</dc:language>
  <cp:lastModifiedBy>Chris Williams</cp:lastModifiedBy>
  <dcterms:modified xsi:type="dcterms:W3CDTF">2012-01-08T20:21:37Z</dcterms:modified>
  <cp:revision>71</cp:revision>
  <dc:subject/>
  <dc:title>Origins &amp; Pre-History</dc:title>
</cp:coreProperties>
</file>